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1E89D-A3FB-4F98-B3AD-8802DB40B3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C4E1E-5297-4CE0-88FC-B29ADA25F78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7CEF4-9A25-446F-B716-145E634E6D4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5AB866-A8C5-4A87-9567-D77B10AFD47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C8D0548-54D6-45EC-8C8D-DBA23A79E724}" type="datetime">
              <a:rPr b="0" lang="fr-FR" sz="1200" spc="-1" strike="noStrike">
                <a:solidFill>
                  <a:srgbClr val="000000"/>
                </a:solidFill>
                <a:latin typeface="Times New Roman"/>
                <a:ea typeface="Arial"/>
              </a:rPr>
              <a:t>31/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EC4CA-FA81-46D6-907A-87358B56E58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63FAB-0106-48F5-8ED7-31B7E7E9136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DD394-1867-4A45-9B56-F5516ABD52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CA552-DA66-4132-9F5C-DCCC4DA81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BF707A-9B12-49E6-B824-84E6F98D0B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E4BAD-5EC2-4F3A-BDBC-67B826B32D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C2291-ADA2-4B74-A9C6-8C7C019AE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F8976-1D9D-4A06-A1FB-2EB2F36B6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129A6-21BC-4A78-B1E4-967CB1FA9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41E92-843F-44A0-BED5-035500525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70C59-6956-40AD-A278-6E641AFB3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4A24F-DDFE-4043-B555-5F67C6EA9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ADC29-E73F-4815-8046-1DB34C82F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D1747-30CB-46C3-BD82-616E49CB2B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E3097-B478-473C-A5E9-616A99EB41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816E967-6C4B-4F32-97B2-06A2327463D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E5741-A5EB-469F-8268-ECE8F0D2D489}"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3FA85-9EAE-448F-BF4B-2E5EE51B7878}"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